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322B-FD9E-4273-A437-044AA5841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B330-2F00-4BEF-82A8-450C747CD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118-972A-4055-8996-B0A79CA7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AA8-D33E-4ABF-B77C-7C3986FA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EA9-E79B-4288-BC92-6CC00EDF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2C2-364D-4523-B538-5757EC46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4CF-CFE6-43EB-8196-827DDCBF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A13-449F-450C-BC60-2831BF4A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1D5-69EF-41CB-B06F-7F675282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F0D-4119-40B6-9049-28A1ECD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72A-9485-430D-B9B8-558C4DF2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F50-BFCA-4FC2-82B1-0BE6A13F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C463-D8D3-488C-8933-0E563592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0F2-549F-4212-BF9E-57195840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22A6-F96A-4483-9C74-189DB494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5 The International Date Line is approximately ___ degrees from the Prime Meridi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6 An area with one or more unique and distinguishing characteristics is called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oc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6 An area with one or more unique and distinguishing characteristics is called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oc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5. Reg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8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creases consumer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romotes the maintenance of tradit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Benefits some countries more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creases communication across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ightly controlled by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8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creases consumer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romotes the maintenance of tradition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Benefits some countries more tha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creases communication across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ightly controlled by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9 The frequency an object appears in a given area is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ens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lativ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9 The frequency an object appears in a given area is 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en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elativ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isper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10 That the physical environment causes social development is the core concep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rela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ossibi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ltural e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Environmental determ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imul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10 That the physical environment causes social development is the core concept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ultural relativ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ossibil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ultural ec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nvironmental determi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Stimulus diff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9 If an area has objects in it that are tightly arranged, it is said to be wha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us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1 Which map would have the largest sc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9 If an area has objects in it that are tightly arranged, it is said to be what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us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t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read of something over a given study are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828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read of something over a given study area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7524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ngement of a phenomenon across Earth’s surfac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rangement of a phenomenon across Earth’s surfac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pati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di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tial distribution created by the U.S. Land Ordinance of 1785 is an exampl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atial distribution created by the U.S. Land Ordinance of 1785 is an exampl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erm for the phenomenon that the farther a feature moves from a hearth, the less dominant it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ic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 occup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term for the phenomenon that the farther a feature moves from a hearth, the less dominant it 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ic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stanc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 occup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ce-time 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duction in time it takes for something to reach another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t places seem less remote and more accessible to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know more about what’s happening in the world, and we know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1 Which map would have the largest sc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-Time Compression, 1492-1962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17680" y="5972040"/>
            <a:ext cx="816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3840" indent="-1023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g. 1-20: The times required to cross the Atlantic, or orbit the earth, illustrate how transport improvements have shrunk the wor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438280" y="1143000"/>
            <a:ext cx="4542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line Route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5800" y="5943600"/>
            <a:ext cx="759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3840" indent="-1023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g. 1-21: Continental Airlines, like many others, has configured its route network in a “hub and spoke” syst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"/>
          <p:cNvPicPr/>
          <p:nvPr/>
        </p:nvPicPr>
        <p:blipFill>
          <a:blip r:embed="rId1"/>
          <a:stretch/>
        </p:blipFill>
        <p:spPr>
          <a:xfrm>
            <a:off x="1371600" y="1082520"/>
            <a:ext cx="678168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4 This climat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und in the continental United St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umid sub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umid contin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umid 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diterran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rine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4 This climat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und in the continental United St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umid sub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umid contin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Humid 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Mediterran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rine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01_14"/>
          <p:cNvPicPr/>
          <p:nvPr/>
        </p:nvPicPr>
        <p:blipFill>
          <a:blip r:embed="rId1"/>
          <a:stretch/>
        </p:blipFill>
        <p:spPr>
          <a:xfrm>
            <a:off x="1066680" y="838080"/>
            <a:ext cx="7391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7 The movement of money from one country to another and one currency to another has primarily been facilit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leadership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dvances in electronic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lobal agreements brokered by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7 The movement of money from one country to another and one currency to another has primarily been facilit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 leadership of the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Advances in electronic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World Trad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Transnational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lobal agreements brokered by the Uni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2 A place’s location relative to other objects or places is called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bsolut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ative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2 A place’s location relative to other objects or places is called 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bsolut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it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elative lo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3 An object at 90 degrees north latitud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t the North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n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t the Tropic of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t the Tropic of Capri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loser to Australia than 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3 An object at 90 degrees north latitud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At the North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On the equ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t the Tropic of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t the Tropic of Capri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Closer to Australia than 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01_08"/>
          <p:cNvPicPr/>
          <p:nvPr/>
        </p:nvPicPr>
        <p:blipFill>
          <a:blip r:embed="rId1"/>
          <a:stretch/>
        </p:blipFill>
        <p:spPr>
          <a:xfrm>
            <a:off x="2286000" y="609480"/>
            <a:ext cx="4648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1.05 The International Date Line is approximately ___ degrees from the Prime Merid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21:30:07Z</dcterms:created>
  <dc:creator>Michael Pretes</dc:creator>
  <dc:description/>
  <dc:language>en-US</dc:language>
  <cp:lastModifiedBy>Hartman, Unity</cp:lastModifiedBy>
  <cp:lastPrinted>2012-09-20T00:07:21Z</cp:lastPrinted>
  <dcterms:modified xsi:type="dcterms:W3CDTF">2013-09-21T00:59:08Z</dcterms:modified>
  <cp:revision>94</cp:revision>
  <dc:subject/>
  <dc:title>CRS Chapter 4</dc:title>
</cp:coreProperties>
</file>